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6C8-14BD-4683-B7B8-4EF19CF4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F07-4CF0-46F3-8EF5-878CFCE7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DE5-48AF-4CCB-BCBE-708C3D06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797-D626-4F47-B7AB-0707124D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6AC-64B0-4F16-8A90-ED57075D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465-84C4-4003-8D70-134CAAE4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20F-A3A0-4A7C-94A7-9FDF374A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CED-243B-4C5A-8B55-C7D8555D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754-4845-4F1A-8C7B-C7C1FD1A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FF9-4686-4267-A4D4-9AFC6D59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38A-3272-40D5-95EB-E2EE3CF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5BC-AC06-4B04-A819-45C63251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DA91-914C-48F0-8FA1-93F6A8398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Science fai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By: Gus truel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8520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Which can tell the different gum flavors /male/ femal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I think girls will be able to tell the difference better because you see them chewing gum a lot more</a:t>
            </a: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Orb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Trident</a:t>
            </a: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Testers boy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.Co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.Chase</a:t>
            </a: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My conclusion ends with girls did better at testing than boys. Because of the more they chew the easier it will be able to tel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Testers gir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.Linds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.Yah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Procedu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1- Gather all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2-get the te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3-binldfold the te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4-take 1 at a tim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5- give them each a piece of gum (1 sti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44:09Z</dcterms:created>
  <dc:creator>USD376</dc:creator>
  <dc:description/>
  <dc:language>en-US</dc:language>
  <cp:lastModifiedBy>STERLING  USD376</cp:lastModifiedBy>
  <cp:lastPrinted>2010-05-04T13:38:36Z</cp:lastPrinted>
  <dcterms:modified xsi:type="dcterms:W3CDTF">2010-05-04T13:46:43Z</dcterms:modified>
  <cp:revision>8</cp:revision>
  <dc:subject/>
  <dc:title>Science fair project</dc:title>
</cp:coreProperties>
</file>